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576A-EF5F-424B-8223-2C0D9A20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59BC-ABC1-4796-B109-60DA7D573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03E3-2C9B-4A14-B6A8-800931927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64B4-F593-43DE-B325-37E866A6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08B9-21C8-434E-A31E-DC8458C8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8476-A1FC-438A-B768-E176D1896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8038-725B-4685-8766-1097712B5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CCFF-DC49-497E-90E8-D6D5F7431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89D-9B55-44CE-B69C-4FE68899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B63-2DAA-48F2-B285-E9992FE7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5354-F236-4C51-834C-760DD532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E47-AF53-4AC5-92D6-0E66AAC3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C653-0A50-4408-A9C8-08D17516A8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80880" y="-1676520"/>
            <a:ext cx="10159920" cy="101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8:17:33Z</dcterms:created>
  <dc:creator>PA Department of Education</dc:creator>
  <dc:description/>
  <dc:language>en-US</dc:language>
  <cp:lastModifiedBy>PA Department of Education</cp:lastModifiedBy>
  <dcterms:modified xsi:type="dcterms:W3CDTF">2009-05-21T18:35:23Z</dcterms:modified>
  <cp:revision>1</cp:revision>
  <dc:subject/>
  <dc:title>PowerPoint Presentation</dc:title>
</cp:coreProperties>
</file>